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EDD9-A57E-471F-AEFD-D86FA2AA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847-B348-4458-801C-739FBE19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FD4-7F2D-4874-8F76-2EC7C6C9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D786-51C8-42F4-AB4C-5000E287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B25E-56F7-423D-98AA-6BBB2885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702B-09ED-48FF-AE53-A3E758C9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6C6C-E6CE-4874-B6FA-221C9402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8737-32BA-4E5D-AA1D-03D18F7A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52C7-00D4-412C-A807-A6085BA3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3695-4748-424E-AA19-C7F0BEC5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EC9A-C65E-4E90-9CDF-D346F928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CAE3-80BB-45E3-BE3C-5850E657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16F1-68EF-4838-A028-F941B962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5FDE-BCC8-46C7-9FD4-58FA6862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B753-A1B2-47F7-B98D-3B6B33AE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C9A1-4155-47B7-923F-C0DC1982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BC0B-AD4C-4360-B532-BC54FDB1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BA9-EF3A-40A8-B188-8AB7E545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00A-5C6F-4A91-BEDD-E4B096E7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A33-220C-4BF9-A3E0-33C9CBE5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13D-454B-413E-99C6-179E40C8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1470-7D54-48E1-B241-AED48E69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821-3FA6-4508-99A0-B1AD5397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EC9-F36A-42DF-899C-AEB2D98D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E8AD-ECD3-4FFB-B679-6DB6707440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080" y="2323440"/>
                    <a:ext cx="2558880" cy="2740320"/>
                    <a:chOff x="5761080" y="2323440"/>
                    <a:chExt cx="255888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4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39840" cy="2530440"/>
                    <a:chOff x="2085120" y="2366640"/>
                    <a:chExt cx="3039840" cy="25304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9640"/>
                      <a:ext cx="223560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8080"/>
                    <a:ext cx="2939040" cy="1000800"/>
                    <a:chOff x="2167560" y="2098080"/>
                    <a:chExt cx="29390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5640" y="2224080"/>
                      <a:ext cx="1903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964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4080"/>
                    <a:ext cx="1460880" cy="1888200"/>
                    <a:chOff x="4027320" y="334080"/>
                    <a:chExt cx="1460880" cy="18882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432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3080" y="544680"/>
                      <a:ext cx="7282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3560" cy="1946880"/>
                    <a:chOff x="4448160" y="245520"/>
                    <a:chExt cx="1123560" cy="1946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220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200680" cy="1451160"/>
                    <a:chOff x="5529600" y="626400"/>
                    <a:chExt cx="22006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1072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5560" cy="1900800"/>
                    <a:chOff x="5355720" y="270360"/>
                    <a:chExt cx="1195560" cy="190080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440" y="486000"/>
                      <a:ext cx="70236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8880" y="389160"/>
                    <a:ext cx="1890720" cy="1795320"/>
                    <a:chOff x="5348880" y="389160"/>
                    <a:chExt cx="189072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8800" y="138852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85000"/>
                      <a:ext cx="76536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760" y="534240"/>
                      <a:ext cx="63108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30800"/>
                    <a:ext cx="2193480" cy="3001680"/>
                    <a:chOff x="3063240" y="2530800"/>
                    <a:chExt cx="2193480" cy="30016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8920" y="3314520"/>
                      <a:ext cx="21254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10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200" y="2701800"/>
                    <a:ext cx="876240" cy="2927520"/>
                    <a:chOff x="4507200" y="2701800"/>
                    <a:chExt cx="8762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360" y="4807800"/>
                      <a:ext cx="1012320" cy="543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4520"/>
                    <a:ext cx="1756080" cy="3030120"/>
                    <a:chOff x="5648400" y="2594520"/>
                    <a:chExt cx="1756080" cy="30301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720" y="3396600"/>
                      <a:ext cx="203328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19600"/>
                      <a:ext cx="1089720" cy="576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1880"/>
                    <a:ext cx="1225800" cy="2985120"/>
                    <a:chOff x="5576040" y="2711880"/>
                    <a:chExt cx="1225800" cy="29851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48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8440" y="488160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7200"/>
                      <a:ext cx="18136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504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7560"/>
                    <a:ext cx="664560" cy="2717640"/>
                    <a:chOff x="4961160" y="2887560"/>
                    <a:chExt cx="66456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12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280" y="493164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532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164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256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8560"/>
                <a:ext cx="54396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1DF4-983C-4EE2-B584-B685C60C109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5"/>
          <p:cNvSpPr txBox="1"/>
          <p:nvPr/>
        </p:nvSpPr>
        <p:spPr>
          <a:xfrm>
            <a:off x="533520" y="1752480"/>
            <a:ext cx="670536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onrenewabl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nerg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ow Fossil-Fuel Deposits For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5228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oa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orms from the remains of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plants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that lived in swamps hundreds of millions of years ag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uch of the coal in the eastern U.S. formed about 320 million to 300 million years ag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Formation of coal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s ocean levels rose &amp; fell, swamps were covered with sediment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Layers of sediment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compressed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the plant remain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Heat &amp; pressure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within the Earth’s crust caused coal to form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Oil &amp; Natural G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esult from the decay of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tiny marine organisms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that accumulated on the bottom of the ocean millions of years ag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a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wo major advantages of co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latively inexpensiv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eeds little refining after it has been min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Electricity is Generated in the U.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al: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50%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uclear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0%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atural Gas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8%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ydroelectricity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7%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il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%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al Mining &amp; the Environmen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urface mining has a bigger effect on the environ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oxic chemicals can leach into nearby stream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lot of research focuses on 2 things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veloping better methods of locat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veloping less damaging metho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ir Pollu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igher-grade coals produce more heat and less pollution than lower-grade coa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ulfur is a major source of pollution when coal is burn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ean-burning coal technology has dramatically reduced air pollution in the U.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etroleum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il that is pumped from the ground (also called crude oil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etroleum product: anything that is made from crude oi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ccounts for 45% of the world’s commercial energy u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ost of the world’s oil reserves are in the Middle Eas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teps in the Oil-Drilling Proces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xploration wells are drill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f oil can be extracted at a profitable rate, wells are drill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il is transported to a refinery to be converted into fuels &amp; other petroleum produc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160" y="301680"/>
            <a:ext cx="792468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vironmental Effects of Using Oi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en petroleum fuels are burned, they release pollutan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ontribute to the formation of smog and cause health problem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ulfur: a pollutant that contributes to acid rai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carbon dioxide released may contribute to global warm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 things that have reduced air pollution from cars in many area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Emission regulation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echnology (catalytic converters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Natural Ga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ovides 20% of the world’s nonrenewable energ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ethane (CH4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as become more common to use because it produces fewer pollutants than burning other fossil fue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ossil Fuels &amp; the Futu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upply about 90% of the energy used in developed countr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ost will likely increase as the demand for energy resources increas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il reserves: oil deposits that can be extracted profitably at current prices using current technolog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relative cost of obtaining fossil fuels influences the amount of fossil fuels that we extract from the Earth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ossil Fuel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remains of ancient organisms that changed into </a:t>
            </a: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coal, oil, or natural g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ovide most of the energy used toda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2 main problem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upply is </a:t>
            </a: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limite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btaining and using them causes </a:t>
            </a: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environmental problem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Picture 4" descr="c:\program files\microsoft office\clipart\standard\stddir3\in00563_.wmf"/>
          <p:cNvPicPr/>
          <p:nvPr/>
        </p:nvPicPr>
        <p:blipFill>
          <a:blip r:embed="rId1"/>
          <a:stretch/>
        </p:blipFill>
        <p:spPr>
          <a:xfrm>
            <a:off x="7264440" y="2438280"/>
            <a:ext cx="1879560" cy="1603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http://www.thegenerator.biz/RetroBeverlyHillbillies62.jpg"/>
          <p:cNvPicPr/>
          <p:nvPr/>
        </p:nvPicPr>
        <p:blipFill>
          <a:blip r:embed="rId2"/>
          <a:srcRect l="19581" t="21487" r="8617" b="0"/>
          <a:stretch/>
        </p:blipFill>
        <p:spPr>
          <a:xfrm>
            <a:off x="7238880" y="419112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uels for Different Us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sed for </a:t>
            </a: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5 main purpose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Cook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Transporta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Manufactur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Heating &amp; cooling building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Generating electricity to run machines &amp; applianc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Suitability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of a fuel for each application depends on the fuel’s energy content, cost, availability &amp; safety, and the byproducts of the fuel’s u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1320"/>
            <a:ext cx="7848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lectricity – Power on Deman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in fuels is often converted into </a:t>
            </a: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electrical energy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in order to power machines because electricity is more convenient to u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Can be transported quickly across long or short distanc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Disadvantages of electricity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ifficult to stor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ther energy sources have to be used to generate i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301320"/>
            <a:ext cx="784872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ow is Electricity Generated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Electric generator: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converts mechanical energy (motion) into electrical energ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ses a </a:t>
            </a:r>
            <a:r>
              <a:rPr b="0" i="1" lang="en-US" sz="2400" spc="-1" strike="noStrike">
                <a:solidFill>
                  <a:srgbClr val="fe1f08"/>
                </a:solidFill>
                <a:latin typeface="Arial Black"/>
              </a:rPr>
              <a:t>turbin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(wheel that changes the force of a moving gas or liquid into energy that can do work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ater is boiled to produce the steam that turns the turbin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water is heated </a:t>
            </a: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by burning a fuel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(coal, gas) or </a:t>
            </a: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by fission of uranium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in nuclear plan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turbine spins a generator to produce electrici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17_01"/>
          <p:cNvPicPr/>
          <p:nvPr/>
        </p:nvPicPr>
        <p:blipFill>
          <a:blip r:embed="rId1"/>
          <a:stretch/>
        </p:blipFill>
        <p:spPr>
          <a:xfrm>
            <a:off x="0" y="92556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ergy Use in the U.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eople i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developed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societies use much more energy than people i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developing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countries d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U.S. uses more energy per person than any other country in the world except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Canada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&amp; the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United Arab Emirat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13160" indent="-2743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ses more than 25% of its energy resources to transport goods &amp; people (trucks &amp; personal vehicles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13160" indent="-2743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esidents of U.S. &amp; Canada have some of the lowest gasoline tax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ergy Use in the U.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5" name="Picture 3" descr="17_03"/>
          <p:cNvPicPr/>
          <p:nvPr/>
        </p:nvPicPr>
        <p:blipFill>
          <a:blip r:embed="rId1"/>
          <a:stretch/>
        </p:blipFill>
        <p:spPr>
          <a:xfrm>
            <a:off x="2286000" y="1371600"/>
            <a:ext cx="456732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orld Energy Us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Picture 3" descr="17_02"/>
          <p:cNvPicPr/>
          <p:nvPr/>
        </p:nvPicPr>
        <p:blipFill>
          <a:blip r:embed="rId1"/>
          <a:stretch/>
        </p:blipFill>
        <p:spPr>
          <a:xfrm>
            <a:off x="838080" y="1752480"/>
            <a:ext cx="7315200" cy="492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21:13:29Z</dcterms:created>
  <dc:creator>Jason Turri</dc:creator>
  <dc:description/>
  <dc:language>en-US</dc:language>
  <cp:lastModifiedBy>Jason</cp:lastModifiedBy>
  <dcterms:modified xsi:type="dcterms:W3CDTF">2009-04-15T02:42:05Z</dcterms:modified>
  <cp:revision>8</cp:revision>
  <dc:subject/>
  <dc:title>Nonrenewable Energy</dc:title>
</cp:coreProperties>
</file>